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ADC45-FADC-449B-8A14-1959A12B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14BFF-01D7-4822-8947-C8BD0C55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356EB-814E-47A4-862F-C9E1EB08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383C2-0C4D-4B9E-88FB-C7DA7EB2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81DA0-6E1A-41F2-A29F-DBE2BD8C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03831-1A82-4590-B506-C97D5761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E9443-D30C-479F-AE2D-7C8496C4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12E44-B877-42A3-91B2-AB93980A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BE684-7CD9-4F85-A688-249B01DA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DC0D5-CD14-481E-A34B-75AE967C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E6A38-7CC7-4C58-91AD-14E812B5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38A16-8CBF-45D8-B356-314C8112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80DF16-E245-4AE7-89D6-41E1F0F7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92CFBA-8590-48C3-AF62-2F4B1697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92AB3-A443-4148-972F-EDA4BC20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5C45C2-E111-4E1A-8834-EED7B5B2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0DD63-D1C6-4CDD-A25F-06EFDA45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B90A5-102B-4E94-BDC7-97CE81AD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5D74C8-72A2-4D97-856C-41674F17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10ECC-E998-461F-B800-F77FF625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9EF679-A6B4-4937-8E3C-1C22DA0C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C4EAE-A988-4AE1-AE0F-805AB20D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9E830-4779-48E6-8AA2-220ABB45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919664-A2C7-47DF-8354-10CF1A53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B659D1-3A33-40C0-B58F-AD66F90D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1312B9-2B1D-4149-A2E5-4DF748A4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479636-5C7A-4FAA-838B-6A4B84F4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ABC750-2A10-4D32-881D-75545999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E8B55A-8187-4942-9070-891C5A26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DF58B5-FF29-46C5-A728-CCCCA4B0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1CE6BB-7E5D-4338-983F-A3F7C441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DBA069-329D-4C86-A185-BDFBC560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22F184-B06D-4151-95BC-3E069333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FEC019-DD17-4C74-9DB4-B05DE5D4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8F5334-9D72-4B72-BCED-319D6480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9CAFE2-DA34-4F73-8E13-082E5E8E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2554B5-8F21-49FC-B417-8F652280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391AE6-7CD3-4C66-B1C0-91785F12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D2FC34-7F57-4DC8-BC08-35323765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B9412B-C927-4724-95B3-01B6B3C5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C3A114-4B48-4399-A410-B0655EE2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EB0D98-AF3C-4AA8-9A85-C66781BA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F1CF36-117A-48D3-8AE9-D2887E73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B142C1-7943-42B8-8755-C86BD43E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C3DE82-7B11-4880-8C5F-4091BB87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0FAC9D-C471-46E4-90CA-4C2147B9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17C135-0F60-4E38-9AB8-62C8ED32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3862B7-C1E0-4598-97C6-69969846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7F64-5006-4F55-82A2-F9AF81E00202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istemi Distribui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FB06-59B3-407F-AB57-66E4415F2C0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7B48-19F7-467A-A74F-7814A93F279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A24A-005F-4BF4-A266-28427DE1F1B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C911-89F3-4EF7-9670-0F51EBD36B97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544760" y="2103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gegneria del Web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3 2014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Sistemi Distribuiti: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RMI Avanz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826920" y="1413000"/>
            <a:ext cx="144720" cy="544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7812000" y="1413000"/>
            <a:ext cx="13320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istributed Garbage Collector -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9850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istributed Garbage Collector -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763272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Esempio DC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633564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Esempio DCG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8407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terface Hel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705636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HelloImpl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626436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HelloImpl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719928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terface MessageO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84072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essageObjectImpl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16720" cy="38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essageObjectImpl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1447920" y="1484280"/>
            <a:ext cx="64371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40872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 Server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5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576108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 Server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76108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 Server -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1"/>
          <a:stretch/>
        </p:blipFill>
        <p:spPr>
          <a:xfrm>
            <a:off x="1763640" y="1370160"/>
            <a:ext cx="655344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 Client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48036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 Client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69832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ocketFac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8" descr=""/>
          <p:cNvPicPr/>
          <p:nvPr/>
        </p:nvPicPr>
        <p:blipFill>
          <a:blip r:embed="rId1"/>
          <a:stretch/>
        </p:blipFill>
        <p:spPr>
          <a:xfrm>
            <a:off x="1476360" y="1438200"/>
            <a:ext cx="705636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ClientSocketFactory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712800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ClientSocketFactory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5" descr=""/>
          <p:cNvPicPr/>
          <p:nvPr/>
        </p:nvPicPr>
        <p:blipFill>
          <a:blip r:embed="rId1"/>
          <a:stretch/>
        </p:blipFill>
        <p:spPr>
          <a:xfrm>
            <a:off x="1514520" y="1341360"/>
            <a:ext cx="672948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ServerSocketFac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5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712800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ustom RMI SocketFac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8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4818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 e Fire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1467000" y="1268280"/>
            <a:ext cx="720864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Esempio di Custom RMI SocketFac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26436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Esempio di Custom RMI SocketFactory -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84036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InputStream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91200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InputStream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5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756108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OutputStre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8" descr=""/>
          <p:cNvPicPr/>
          <p:nvPr/>
        </p:nvPicPr>
        <p:blipFill>
          <a:blip r:embed="rId1"/>
          <a:stretch/>
        </p:blipFill>
        <p:spPr>
          <a:xfrm>
            <a:off x="1362240" y="1413000"/>
            <a:ext cx="7170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ServerSock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26436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Socket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6912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Socket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741672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ClientSocketFactory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8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8403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ClientSocketFactory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tretch/>
        </p:blipFill>
        <p:spPr>
          <a:xfrm>
            <a:off x="1365120" y="1413000"/>
            <a:ext cx="731052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lient che opera dietro un Firewa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32800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ServerSocketFac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5" descr=""/>
          <p:cNvPicPr/>
          <p:nvPr/>
        </p:nvPicPr>
        <p:blipFill>
          <a:blip r:embed="rId1"/>
          <a:stretch/>
        </p:blipFill>
        <p:spPr>
          <a:xfrm>
            <a:off x="1555920" y="1484280"/>
            <a:ext cx="68324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lient che opera dietro un Firewall -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6337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irewall sia lato client che lato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90544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irewall sia lato client che lato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1620720" y="1498680"/>
            <a:ext cx="676764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64800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istributed Garbage Collec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720072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</cp:lastModifiedBy>
  <dcterms:modified xsi:type="dcterms:W3CDTF">2013-09-30T15:03:16Z</dcterms:modified>
  <cp:revision>65</cp:revision>
  <dc:subject/>
  <dc:title>Diapositiva 1</dc:title>
</cp:coreProperties>
</file>